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7721-2523-497A-9FDD-75032F72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B30-1989-442C-AE68-34726304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FE0-C3D0-44CE-9A1F-81CD3513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E95-896F-4A2F-AD61-48BB0480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A202-3A43-4DAE-B9D8-F8C30719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C89-AC0C-4497-8A71-8617FEAC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EC1-62A3-4E6D-A5E2-2572FB57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02E-76B4-4C02-98E6-8AF20976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58D-E6B8-4731-9F5B-C50A9C26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FF9-B2DB-44B4-8CD2-76598306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BA7-DFE0-40E8-9B53-6CCCC46E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6BC-FD1E-420C-AB62-F27A6DD9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D57A-1B5D-40DA-A03F-3FDCADDD931C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01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266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inion"/>
              </a:rPr>
              <a:t>Worksplitproposal TPM E &lt;-&gt; TPM A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Minion"/>
              </a:rPr>
              <a:t>(Variantmanagement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49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 TPM  B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Worksplit per Region and Timezone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57200" y="6103800"/>
            <a:ext cx="514440" cy="14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564000" y="6110280"/>
            <a:ext cx="514440" cy="138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124000" y="6110280"/>
            <a:ext cx="514440" cy="138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86320" y="6004080"/>
            <a:ext cx="117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ost reason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11840" y="6064200"/>
            <a:ext cx="90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not poss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86960" y="6004080"/>
            <a:ext cx="66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oss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883200" cy="39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Possible Workspl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765000"/>
            <a:ext cx="39196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lternative 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PM Asia takes over additional responsibility for E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ditional necessary Resources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PM Europe keeps responsibilty for WE and LA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cessary Resources: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vantage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more equal workspl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isadvantag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max 5 hours common working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TMO, Orange, VF Consortia are present in WE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and EE =&gt; two different contacts (TPM Asia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and TPM Europe) for one country for the same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product: i. .e. 1 x Retail = EE, TMO = 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emark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OMs( Regional Operation Managers Sales) and Order Managers for EE are located in Muni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mploy Staff, Training and Know How Transfer needs some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56000" y="765000"/>
            <a:ext cx="39196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lternative I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ve it as it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vantage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cesses and skills ar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s are def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unty specic requirements can be easily 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transfered to consortia 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p to 10 common working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isadvantag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Unequal workload between TPM Europe and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emark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OMs( Regional Operation Managers Sales) and Order Managers for EE are located in Muni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052640"/>
            <a:ext cx="814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69228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2680" y="5932440"/>
            <a:ext cx="83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mark: These Alternatives are not relevant for GPM. GPM- Topics are Product re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Common Working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052640"/>
            <a:ext cx="4076640" cy="1936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3357720"/>
            <a:ext cx="4076640" cy="141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Holger Asmussen</cp:lastModifiedBy>
  <dcterms:modified xsi:type="dcterms:W3CDTF">2006-03-28T12:46:58Z</dcterms:modified>
  <cp:revision>137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59298984</vt:r8>
  </property>
  <property fmtid="{D5CDD505-2E9C-101B-9397-08002B2CF9AE}" pid="3" name="_AuthorEmail">
    <vt:lpwstr>Brigitte.Flierl@BenQ.com</vt:lpwstr>
  </property>
  <property fmtid="{D5CDD505-2E9C-101B-9397-08002B2CF9AE}" pid="4" name="_AuthorEmailDisplayName">
    <vt:lpwstr>Brigitte Flierl</vt:lpwstr>
  </property>
  <property fmtid="{D5CDD505-2E9C-101B-9397-08002B2CF9AE}" pid="5" name="_EmailSubject">
    <vt:lpwstr>Folien/Infos zu Variantenaufteilung</vt:lpwstr>
  </property>
  <property fmtid="{D5CDD505-2E9C-101B-9397-08002B2CF9AE}" pid="6" name="_ReviewingToolsShownOnce">
    <vt:lpwstr/>
  </property>
</Properties>
</file>